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C59-B5B1-4A7C-B5A4-3F253E03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15A-9602-4F82-85C2-D643C456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B74-B8F8-46F3-9B2F-FFB8202B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861-3AA7-418A-975E-BFD9EA78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F6C-ECF4-424F-B6B9-12202AD9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EB7-972B-4ECD-8F1F-B9FD0B0D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5BD-8EAC-4212-ABFB-C3D5D0BD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C56-3AD2-4DD3-AF9E-89EF83A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519-F4DF-41DF-87C6-553407BC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870-F859-4ACC-A82D-1F5B2B19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0D6-5163-4A3E-AB70-F3133E1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20B-C4FF-4A84-9C83-C4C8FA40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8473-B253-437E-A78C-D588D63A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298520" y="2219400"/>
            <a:ext cx="651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h the intention of remitting Original Sin … by the person doing the bapt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243080" y="2895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017720" y="5648400"/>
            <a:ext cx="706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155680" y="388620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2652840" y="3429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004760" y="5075280"/>
            <a:ext cx="70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         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990720" y="4419720"/>
            <a:ext cx="707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Person Baptized  _________________________          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24080" y="46483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S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156360" y="464832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Pri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3124080" y="5302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S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156360" y="530208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Pri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chael Bizzaro</cp:lastModifiedBy>
  <cp:lastPrinted>2020-12-06T03:19:59Z</cp:lastPrinted>
  <dcterms:modified xsi:type="dcterms:W3CDTF">2020-12-06T03:22:57Z</dcterms:modified>
  <cp:revision>14</cp:revision>
  <dc:subject/>
  <dc:title>Slide 1</dc:title>
</cp:coreProperties>
</file>